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EFB-E2D3-4AEA-9AFD-E89A23A9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724-D1A9-422B-92AB-673A5B0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8C0-04C1-4B10-B158-198C018A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4E9-6B74-4799-8DEE-D048218F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EFA6-D0E6-43DF-A755-789BDCA2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32D-59A1-4D6B-9E58-D26C09E7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94D-D521-4C95-8A14-07308D80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3D6-CCBA-4D12-9C13-E025D78F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038-7695-4EDC-AEDB-F5BBC942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8EC-E22D-42B5-A1AA-8475CF15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F37-F239-472C-AB14-86B383A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4D6-F5FF-4BC1-A2BD-2A93FB5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8232-8E0D-446F-B087-79703A1F49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Toxic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ubstance may be poisonous if touched or swallow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hemical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emicals that can react with and destroy tissue and other material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Animal Safety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ppears when safety of animal and students must be ensur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Radioactivity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ears when radioactive materials are us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Biological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ological materials that might be harmful to human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Irritant/Corrosive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ngs that can irritate skin or mucous membranes of the respiratory trac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Eye Safety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per eye protections should be worn @ all times when observing or performing lab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Fume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ssible danger to respiratory tract from fu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Electrical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ssible danger from electrical shock or bur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lothing Protectio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ppears when substances could stain or burn cloth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pen Flame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pen flame may ignite flammable chemicals, loose clothing, or h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Extreme Temperatures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bjects that can burn skin by being too cold or ho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Sharp Object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of tools or glassware that can easily puncture or slice sk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Disposal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ecial disposal procedures need to be follow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3:29:06Z</dcterms:created>
  <dc:creator>Clear Creek ISD</dc:creator>
  <dc:description/>
  <dc:language>en-US</dc:language>
  <cp:lastModifiedBy>Clear Creek ISD</cp:lastModifiedBy>
  <dcterms:modified xsi:type="dcterms:W3CDTF">2009-09-01T19:27:27Z</dcterms:modified>
  <cp:revision>4</cp:revision>
  <dc:subject/>
  <dc:title>Toxic</dc:title>
</cp:coreProperties>
</file>